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CABA-2A1A-462F-9F56-F5358FABA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BC40-0A59-427A-825B-D8D251B2D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732B-9EB1-48CF-9CB3-34F395660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AFD-7FCB-47C5-B075-5589D5FF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6ECE-53E8-4D89-B3C5-585DEA41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2D5B-4DB6-4E36-B86E-6F5F2E94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350-EDF4-499D-9E55-83D95C98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11F5-9ACB-4875-909E-521A5D7B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674-30C4-425E-85A8-BD7E31F4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F3F-5E64-4981-8483-0090931C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236F-C158-42F4-95AA-AFBA303A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E55-3721-420D-8C93-7586E95F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41C-AC5A-41F8-B8DE-6EA4DBBB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D9D7-3DC0-4692-BD52-54B647BA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615-D051-495D-B8BD-2E17293C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082E-1AB7-4196-A7A1-6EB4A07A1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6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6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um Sheik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9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Yo soy Anum. Tengo catorce años. Yo soy feliz y emocionada. Vivo en New York City. Tengo dos hermanas. Amo alimento y voleibo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38862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ual Burger King son tu en? Yo puedo veni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32767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No. Yo soy rapida. Nosotras estamos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n Burger King ahora mismo! Ellas quieren comer hel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                        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iero alimento!! Donde esta Naimah? Ella es lent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¡Buenos días, amiga bonita! ¿cómo estás? Nuestras amigas son aqui.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, gracias, Mireya y tu? Tu eres un hambrienta chika.                                                    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743200" y="60199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nada. Ella es también una chica loca. 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6"/>
          <p:cNvSpPr/>
          <p:nvPr/>
        </p:nvSpPr>
        <p:spPr>
          <a:xfrm>
            <a:off x="21337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Photo on 2011-11-29 at 13.54.jpg"/>
          <p:cNvPicPr/>
          <p:nvPr/>
        </p:nvPicPr>
        <p:blipFill>
          <a:blip r:embed="rId5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350361690236.jpg"/>
          <p:cNvPicPr/>
          <p:nvPr/>
        </p:nvPicPr>
        <p:blipFill>
          <a:blip r:embed="rId6"/>
          <a:stretch/>
        </p:blipFill>
        <p:spPr>
          <a:xfrm flipH="1">
            <a:off x="2133360" y="3809880"/>
            <a:ext cx="533160" cy="609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anumfakebook.jpg"/>
          <p:cNvPicPr/>
          <p:nvPr/>
        </p:nvPicPr>
        <p:blipFill>
          <a:blip r:embed="rId7"/>
          <a:stretch/>
        </p:blipFill>
        <p:spPr>
          <a:xfrm>
            <a:off x="2133720" y="2514600"/>
            <a:ext cx="457200" cy="546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naimahfakebook.jpg"/>
          <p:cNvPicPr/>
          <p:nvPr/>
        </p:nvPicPr>
        <p:blipFill>
          <a:blip r:embed="rId8"/>
          <a:stretch/>
        </p:blipFill>
        <p:spPr>
          <a:xfrm>
            <a:off x="2133720" y="318132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mireyafakebook.jpg"/>
          <p:cNvPicPr/>
          <p:nvPr/>
        </p:nvPicPr>
        <p:blipFill>
          <a:blip r:embed="rId9"/>
          <a:stretch/>
        </p:blipFill>
        <p:spPr>
          <a:xfrm>
            <a:off x="2133720" y="4495680"/>
            <a:ext cx="457200" cy="4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4" descr="1350361690236.jpg"/>
          <p:cNvPicPr/>
          <p:nvPr/>
        </p:nvPicPr>
        <p:blipFill>
          <a:blip r:embed="rId10"/>
          <a:stretch/>
        </p:blipFill>
        <p:spPr>
          <a:xfrm flipH="1">
            <a:off x="2133360" y="510552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mireyafakebook.jpg"/>
          <p:cNvPicPr/>
          <p:nvPr/>
        </p:nvPicPr>
        <p:blipFill>
          <a:blip r:embed="rId11"/>
          <a:stretch/>
        </p:blipFill>
        <p:spPr>
          <a:xfrm>
            <a:off x="2133720" y="6019920"/>
            <a:ext cx="4572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um Sheik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num Sheik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7"/>
          <p:cNvSpPr/>
          <p:nvPr/>
        </p:nvSpPr>
        <p:spPr>
          <a:xfrm>
            <a:off x="152280" y="3581280"/>
            <a:ext cx="1676520" cy="9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Yo soy Anum. Tengo catorce años. Yo soy feliz y emocionada. Vivo en New York City. Tengo dos hermanas. Amo alimento y voleibo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7"/>
          <p:cNvSpPr/>
          <p:nvPr/>
        </p:nvSpPr>
        <p:spPr>
          <a:xfrm>
            <a:off x="2743200" y="38862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ual Burger King son tu en? Tienes                                                                                      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2743200" y="32767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Nosotras estamos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n Burger King ahora mismo! Ellas quieren comer hel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43434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                        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¡Buenos días, amiga bonita! ¿cómo estás?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ias, Mireya. Tu eres un hambrienta chika.                                                                       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2743200" y="60199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. Ella es también una chica loca. 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Mirey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6"/>
          <p:cNvSpPr/>
          <p:nvPr/>
        </p:nvSpPr>
        <p:spPr>
          <a:xfrm>
            <a:off x="21337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3" descr="Photo on 2011-11-29 at 13.54.jpg"/>
          <p:cNvPicPr/>
          <p:nvPr/>
        </p:nvPicPr>
        <p:blipFill>
          <a:blip r:embed="rId5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1350361690236.jpg"/>
          <p:cNvPicPr/>
          <p:nvPr/>
        </p:nvPicPr>
        <p:blipFill>
          <a:blip r:embed="rId6"/>
          <a:stretch/>
        </p:blipFill>
        <p:spPr>
          <a:xfrm flipH="1">
            <a:off x="2133360" y="3809880"/>
            <a:ext cx="533160" cy="60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anumfakebook.jpg"/>
          <p:cNvPicPr/>
          <p:nvPr/>
        </p:nvPicPr>
        <p:blipFill>
          <a:blip r:embed="rId7"/>
          <a:stretch/>
        </p:blipFill>
        <p:spPr>
          <a:xfrm>
            <a:off x="2133720" y="2514600"/>
            <a:ext cx="457200" cy="546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naimahfakebook.jpg"/>
          <p:cNvPicPr/>
          <p:nvPr/>
        </p:nvPicPr>
        <p:blipFill>
          <a:blip r:embed="rId8"/>
          <a:stretch/>
        </p:blipFill>
        <p:spPr>
          <a:xfrm>
            <a:off x="2133720" y="3181320"/>
            <a:ext cx="457200" cy="539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mireyafakebook.jpg"/>
          <p:cNvPicPr/>
          <p:nvPr/>
        </p:nvPicPr>
        <p:blipFill>
          <a:blip r:embed="rId9"/>
          <a:stretch/>
        </p:blipFill>
        <p:spPr>
          <a:xfrm>
            <a:off x="2133720" y="4495680"/>
            <a:ext cx="457200" cy="48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4" descr="1350361690236.jpg"/>
          <p:cNvPicPr/>
          <p:nvPr/>
        </p:nvPicPr>
        <p:blipFill>
          <a:blip r:embed="rId10"/>
          <a:stretch/>
        </p:blipFill>
        <p:spPr>
          <a:xfrm flipH="1">
            <a:off x="2133360" y="5105520"/>
            <a:ext cx="533160" cy="609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mireyafakebook.jpg"/>
          <p:cNvPicPr/>
          <p:nvPr/>
        </p:nvPicPr>
        <p:blipFill>
          <a:blip r:embed="rId11"/>
          <a:stretch/>
        </p:blipFill>
        <p:spPr>
          <a:xfrm>
            <a:off x="2133720" y="6019920"/>
            <a:ext cx="4572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8:28:47Z</dcterms:modified>
  <cp:revision>112</cp:revision>
  <dc:subject/>
  <dc:title>Profile</dc:title>
</cp:coreProperties>
</file>